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F41F-F043-46C0-8B34-7C18131B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5C5-C8F0-41E2-9B0F-0E6FBE61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B00-5992-4DF6-A7D7-2D06B1E8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AF8-12A4-45D3-B19E-95CA8DA6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B2F-F13B-4E90-9A85-5587F485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427-7A57-40A5-AA12-FC6B0AA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C01-0C08-4997-891C-51FC2779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50F-4B28-4584-B26A-F4D081E3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F94-EF4B-4E22-820F-8D241A1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026-5456-4C2D-B7F6-67C48802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145-1905-4F50-A4DF-F8C655B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EEB-87EC-4532-BEBE-C54E379B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1FC-64C5-4E6E-830F-0DC33CC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C47F-AA45-4B03-AB35-8DDFDA08A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55680"/>
            <a:ext cx="104760" cy="61084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47680"/>
            <a:ext cx="5624640" cy="1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8872200" y="455760"/>
            <a:ext cx="104760" cy="61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0800000">
            <a:off x="3351240" y="6564240"/>
            <a:ext cx="5624640" cy="108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Guiding the User: An Ontology Driven Interfac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an Bechhofer, Robert Stevens, Gary Ng, Alex Jacoby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Overview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690480" y="2666880"/>
            <a:ext cx="7772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tology Driven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44760"/>
            <a:ext cx="77724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d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0480" y="401652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ture Work and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70232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 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4495680"/>
            <a:ext cx="685800" cy="685800"/>
          </a:xfrm>
          <a:prstGeom prst="smileyFace">
            <a:avLst>
              <a:gd name="adj" fmla="val 856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495680"/>
            <a:ext cx="685800" cy="6858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Background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MB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943600" y="3809880"/>
            <a:ext cx="1967040" cy="533520"/>
            <a:chOff x="5943600" y="3809880"/>
            <a:chExt cx="1967040" cy="533520"/>
          </a:xfrm>
        </p:grpSpPr>
        <p:sp>
          <p:nvSpPr>
            <p:cNvPr id="65" name=""/>
            <p:cNvSpPr/>
            <p:nvPr/>
          </p:nvSpPr>
          <p:spPr>
            <a:xfrm>
              <a:off x="6388200" y="3809880"/>
              <a:ext cx="457200" cy="533520"/>
            </a:xfrm>
            <a:prstGeom prst="foldedCorner">
              <a:avLst>
                <a:gd name="adj" fmla="val 3035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94520" y="388512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lat F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3600" y="3809880"/>
              <a:ext cx="763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943600" y="4648320"/>
            <a:ext cx="2209680" cy="533160"/>
            <a:chOff x="5943600" y="4648320"/>
            <a:chExt cx="2209680" cy="533160"/>
          </a:xfrm>
        </p:grpSpPr>
        <p:grpSp>
          <p:nvGrpSpPr>
            <p:cNvPr id="69" name=""/>
            <p:cNvGrpSpPr/>
            <p:nvPr/>
          </p:nvGrpSpPr>
          <p:grpSpPr>
            <a:xfrm>
              <a:off x="6299280" y="4724280"/>
              <a:ext cx="635040" cy="431640"/>
              <a:chOff x="6299280" y="4724280"/>
              <a:chExt cx="635040" cy="431640"/>
            </a:xfrm>
          </p:grpSpPr>
          <p:sp>
            <p:nvSpPr>
              <p:cNvPr id="70" name=""/>
              <p:cNvSpPr/>
              <p:nvPr/>
            </p:nvSpPr>
            <p:spPr>
              <a:xfrm>
                <a:off x="6399360" y="4724280"/>
                <a:ext cx="43344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23120" y="4752720"/>
                <a:ext cx="384120" cy="2304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485040" y="5011560"/>
                <a:ext cx="260280" cy="288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299280" y="5127480"/>
                <a:ext cx="635040" cy="284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299280" y="5040360"/>
                <a:ext cx="633600" cy="87120"/>
                <a:chOff x="6299280" y="5040360"/>
                <a:chExt cx="633600" cy="87120"/>
              </a:xfrm>
            </p:grpSpPr>
            <p:sp>
              <p:nvSpPr>
                <p:cNvPr id="75" name=""/>
                <p:cNvSpPr/>
                <p:nvPr/>
              </p:nvSpPr>
              <p:spPr>
                <a:xfrm flipV="1">
                  <a:off x="6299280" y="5040360"/>
                  <a:ext cx="633600" cy="87120"/>
                </a:xfrm>
                <a:custGeom>
                  <a:avLst/>
                  <a:gdLst>
                    <a:gd name="textAreaLeft" fmla="*/ 139320 w 633600"/>
                    <a:gd name="textAreaRight" fmla="*/ 494280 w 633600"/>
                    <a:gd name="textAreaTop" fmla="*/ 19080 h 87120"/>
                    <a:gd name="textAreaBottom" fmla="*/ 6804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616800" y="504036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6501240" y="5040360"/>
                  <a:ext cx="576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6414840" y="5040360"/>
                  <a:ext cx="864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74760" y="5040360"/>
                  <a:ext cx="576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732360" y="5040360"/>
                  <a:ext cx="1155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414840" y="5065200"/>
                  <a:ext cx="40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356880" y="5090040"/>
                  <a:ext cx="519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6356880" y="5040360"/>
                  <a:ext cx="1152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>
                  <a:off x="6443640" y="5040360"/>
                  <a:ext cx="864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6559200" y="5040360"/>
                  <a:ext cx="288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645600" y="5040360"/>
                  <a:ext cx="288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703560" y="5040360"/>
                  <a:ext cx="864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61520" y="5040360"/>
                  <a:ext cx="1443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7093080" y="479952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648320"/>
              <a:ext cx="76320" cy="53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43600" y="5486400"/>
            <a:ext cx="2060280" cy="685800"/>
            <a:chOff x="5943600" y="5486400"/>
            <a:chExt cx="2060280" cy="685800"/>
          </a:xfrm>
        </p:grpSpPr>
        <p:grpSp>
          <p:nvGrpSpPr>
            <p:cNvPr id="92" name=""/>
            <p:cNvGrpSpPr/>
            <p:nvPr/>
          </p:nvGrpSpPr>
          <p:grpSpPr>
            <a:xfrm>
              <a:off x="6311880" y="5486400"/>
              <a:ext cx="609480" cy="685800"/>
              <a:chOff x="6311880" y="5486400"/>
              <a:chExt cx="609480" cy="685800"/>
            </a:xfrm>
          </p:grpSpPr>
          <p:sp>
            <p:nvSpPr>
              <p:cNvPr id="93" name=""/>
              <p:cNvSpPr/>
              <p:nvPr/>
            </p:nvSpPr>
            <p:spPr>
              <a:xfrm>
                <a:off x="6540480" y="5486400"/>
                <a:ext cx="380880" cy="5331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11880" y="5638680"/>
                <a:ext cx="380880" cy="5335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94520" y="5790240"/>
              <a:ext cx="90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atab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5562720"/>
              <a:ext cx="76320" cy="533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923200" y="3913560"/>
            <a:ext cx="2840400" cy="945360"/>
            <a:chOff x="2923200" y="3913560"/>
            <a:chExt cx="2840400" cy="945360"/>
          </a:xfrm>
        </p:grpSpPr>
        <p:sp>
          <p:nvSpPr>
            <p:cNvPr id="98" name=""/>
            <p:cNvSpPr/>
            <p:nvPr/>
          </p:nvSpPr>
          <p:spPr>
            <a:xfrm flipV="1" rot="20721600">
              <a:off x="2895120" y="4343040"/>
              <a:ext cx="2895840" cy="152280"/>
            </a:xfrm>
            <a:prstGeom prst="rightArrow">
              <a:avLst>
                <a:gd name="adj1" fmla="val 50000"/>
                <a:gd name="adj2" fmla="val 47541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583600">
              <a:off x="4131360" y="403740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xt 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95480" y="4570920"/>
            <a:ext cx="2895840" cy="381960"/>
            <a:chOff x="2895480" y="4570920"/>
            <a:chExt cx="2895840" cy="381960"/>
          </a:xfrm>
        </p:grpSpPr>
        <p:sp>
          <p:nvSpPr>
            <p:cNvPr id="101" name=""/>
            <p:cNvSpPr/>
            <p:nvPr/>
          </p:nvSpPr>
          <p:spPr>
            <a:xfrm>
              <a:off x="2895480" y="4800600"/>
              <a:ext cx="2895840" cy="152280"/>
            </a:xfrm>
            <a:prstGeom prst="rightArrow">
              <a:avLst>
                <a:gd name="adj1" fmla="val 50000"/>
                <a:gd name="adj2" fmla="val 47541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8080" y="457092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923200" y="4894200"/>
            <a:ext cx="2840400" cy="879120"/>
            <a:chOff x="2923200" y="4894200"/>
            <a:chExt cx="2840400" cy="879120"/>
          </a:xfrm>
        </p:grpSpPr>
        <p:sp>
          <p:nvSpPr>
            <p:cNvPr id="104" name=""/>
            <p:cNvSpPr/>
            <p:nvPr/>
          </p:nvSpPr>
          <p:spPr>
            <a:xfrm rot="878400">
              <a:off x="2895120" y="5257440"/>
              <a:ext cx="2895840" cy="152280"/>
            </a:xfrm>
            <a:prstGeom prst="rightArrow">
              <a:avLst>
                <a:gd name="adj1" fmla="val 50000"/>
                <a:gd name="adj2" fmla="val 47541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1016400">
              <a:off x="4268160" y="502812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769680" indent="-268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ny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spar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ioinformatics information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9680" indent="-268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176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ccess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3733920"/>
            <a:ext cx="3581640" cy="2438280"/>
            <a:chOff x="2666880" y="3733920"/>
            <a:chExt cx="3581640" cy="2438280"/>
          </a:xfrm>
        </p:grpSpPr>
        <p:sp>
          <p:nvSpPr>
            <p:cNvPr id="109" name=""/>
            <p:cNvSpPr/>
            <p:nvPr/>
          </p:nvSpPr>
          <p:spPr>
            <a:xfrm>
              <a:off x="2666880" y="3733920"/>
              <a:ext cx="3581640" cy="243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3809880"/>
              <a:ext cx="763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3600" y="4648320"/>
              <a:ext cx="76320" cy="53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3600" y="5562720"/>
              <a:ext cx="76320" cy="533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4800600"/>
              <a:ext cx="990720" cy="152280"/>
            </a:xfrm>
            <a:prstGeom prst="rightArrow">
              <a:avLst>
                <a:gd name="adj1" fmla="val 50000"/>
                <a:gd name="adj2" fmla="val 16264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9357200">
              <a:off x="4800240" y="4266360"/>
              <a:ext cx="1219320" cy="152640"/>
            </a:xfrm>
            <a:prstGeom prst="rightArrow">
              <a:avLst>
                <a:gd name="adj1" fmla="val 50000"/>
                <a:gd name="adj2" fmla="val 19970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242800">
              <a:off x="4800240" y="5334120"/>
              <a:ext cx="1219320" cy="152280"/>
            </a:xfrm>
            <a:prstGeom prst="rightArrow">
              <a:avLst>
                <a:gd name="adj1" fmla="val 50000"/>
                <a:gd name="adj2" fmla="val 20017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4495680"/>
              <a:ext cx="9907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9520" y="4781520"/>
              <a:ext cx="990360" cy="190440"/>
            </a:xfrm>
            <a:prstGeom prst="leftRightArrow">
              <a:avLst>
                <a:gd name="adj1" fmla="val 50000"/>
                <a:gd name="adj2" fmla="val 103526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05120" y="44956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ire to provid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unifie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ccess using a conceptu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4343400"/>
            <a:ext cx="1371600" cy="106668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5334120" y="3352680"/>
            <a:ext cx="3200400" cy="2743200"/>
            <a:chOff x="5334120" y="3352680"/>
            <a:chExt cx="3200400" cy="2743200"/>
          </a:xfrm>
        </p:grpSpPr>
        <p:sp>
          <p:nvSpPr>
            <p:cNvPr id="122" name=""/>
            <p:cNvSpPr/>
            <p:nvPr/>
          </p:nvSpPr>
          <p:spPr>
            <a:xfrm>
              <a:off x="6629760" y="49528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760" y="40384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7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132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644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579096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41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299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8520" y="44956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72560" y="54100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29760" y="33526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2" idx="4"/>
              <a:endCxn id="123" idx="0"/>
            </p:cNvCxnSpPr>
            <p:nvPr/>
          </p:nvCxnSpPr>
          <p:spPr>
            <a:xfrm>
              <a:off x="6781680" y="3581280"/>
              <a:ext cx="1080" cy="4579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3" idx="3"/>
              <a:endCxn id="130" idx="0"/>
            </p:cNvCxnSpPr>
            <p:nvPr/>
          </p:nvCxnSpPr>
          <p:spPr>
            <a:xfrm flipH="1">
              <a:off x="6401160" y="4233600"/>
              <a:ext cx="273240" cy="2628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0" idx="3"/>
              <a:endCxn id="125" idx="7"/>
            </p:cNvCxnSpPr>
            <p:nvPr/>
          </p:nvCxnSpPr>
          <p:spPr>
            <a:xfrm flipH="1">
              <a:off x="6051600" y="46904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5" idx="3"/>
              <a:endCxn id="127" idx="7"/>
            </p:cNvCxnSpPr>
            <p:nvPr/>
          </p:nvCxnSpPr>
          <p:spPr>
            <a:xfrm flipH="1">
              <a:off x="5594400" y="5147640"/>
              <a:ext cx="241920" cy="677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5"/>
              <a:endCxn id="131" idx="1"/>
            </p:cNvCxnSpPr>
            <p:nvPr/>
          </p:nvCxnSpPr>
          <p:spPr>
            <a:xfrm>
              <a:off x="6051960" y="51476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2" idx="3"/>
              <a:endCxn id="131" idx="7"/>
            </p:cNvCxnSpPr>
            <p:nvPr/>
          </p:nvCxnSpPr>
          <p:spPr>
            <a:xfrm flipH="1">
              <a:off x="6432480" y="51476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0" idx="5"/>
              <a:endCxn id="122" idx="1"/>
            </p:cNvCxnSpPr>
            <p:nvPr/>
          </p:nvCxnSpPr>
          <p:spPr>
            <a:xfrm>
              <a:off x="6509160" y="46904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23" idx="5"/>
              <a:endCxn id="126" idx="0"/>
            </p:cNvCxnSpPr>
            <p:nvPr/>
          </p:nvCxnSpPr>
          <p:spPr>
            <a:xfrm>
              <a:off x="6889680" y="4233600"/>
              <a:ext cx="95940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26" idx="5"/>
              <a:endCxn id="129" idx="0"/>
            </p:cNvCxnSpPr>
            <p:nvPr/>
          </p:nvCxnSpPr>
          <p:spPr>
            <a:xfrm>
              <a:off x="7956720" y="5148000"/>
              <a:ext cx="42624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26" idx="4"/>
              <a:endCxn id="128" idx="0"/>
            </p:cNvCxnSpPr>
            <p:nvPr/>
          </p:nvCxnSpPr>
          <p:spPr>
            <a:xfrm flipH="1">
              <a:off x="7695720" y="5181120"/>
              <a:ext cx="15300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26" idx="3"/>
              <a:endCxn id="124" idx="7"/>
            </p:cNvCxnSpPr>
            <p:nvPr/>
          </p:nvCxnSpPr>
          <p:spPr>
            <a:xfrm flipH="1">
              <a:off x="6889320" y="5147640"/>
              <a:ext cx="851400" cy="7534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22" idx="4"/>
              <a:endCxn id="124" idx="0"/>
            </p:cNvCxnSpPr>
            <p:nvPr/>
          </p:nvCxnSpPr>
          <p:spPr>
            <a:xfrm>
              <a:off x="6781680" y="5181120"/>
              <a:ext cx="108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Background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ption Log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715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ow do we construct query expressions and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navigate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 our way through this sp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438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-based knowledge representation langu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819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cep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rol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soning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atisf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952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queri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re concept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3341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a hierarchical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concep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operator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building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 composit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5334120" y="3352680"/>
            <a:ext cx="3200400" cy="2743200"/>
            <a:chOff x="5334120" y="3352680"/>
            <a:chExt cx="3200400" cy="2743200"/>
          </a:xfrm>
        </p:grpSpPr>
        <p:sp>
          <p:nvSpPr>
            <p:cNvPr id="155" name=""/>
            <p:cNvSpPr/>
            <p:nvPr/>
          </p:nvSpPr>
          <p:spPr>
            <a:xfrm>
              <a:off x="6629760" y="49528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760" y="40384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7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44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579096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41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299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8520" y="44956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560" y="54100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760" y="33526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5" idx="4"/>
              <a:endCxn id="156" idx="0"/>
            </p:cNvCxnSpPr>
            <p:nvPr/>
          </p:nvCxnSpPr>
          <p:spPr>
            <a:xfrm>
              <a:off x="6781680" y="3581280"/>
              <a:ext cx="1080" cy="4579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6" idx="3"/>
              <a:endCxn id="163" idx="0"/>
            </p:cNvCxnSpPr>
            <p:nvPr/>
          </p:nvCxnSpPr>
          <p:spPr>
            <a:xfrm flipH="1">
              <a:off x="6401160" y="4233600"/>
              <a:ext cx="273240" cy="2628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3" idx="3"/>
              <a:endCxn id="158" idx="7"/>
            </p:cNvCxnSpPr>
            <p:nvPr/>
          </p:nvCxnSpPr>
          <p:spPr>
            <a:xfrm flipH="1">
              <a:off x="6051600" y="46904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58" idx="3"/>
              <a:endCxn id="160" idx="7"/>
            </p:cNvCxnSpPr>
            <p:nvPr/>
          </p:nvCxnSpPr>
          <p:spPr>
            <a:xfrm flipH="1">
              <a:off x="5594400" y="5147640"/>
              <a:ext cx="241920" cy="677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8" idx="5"/>
              <a:endCxn id="164" idx="1"/>
            </p:cNvCxnSpPr>
            <p:nvPr/>
          </p:nvCxnSpPr>
          <p:spPr>
            <a:xfrm>
              <a:off x="6051960" y="51476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  <a:endCxn id="164" idx="7"/>
            </p:cNvCxnSpPr>
            <p:nvPr/>
          </p:nvCxnSpPr>
          <p:spPr>
            <a:xfrm flipH="1">
              <a:off x="6432480" y="51476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3" idx="5"/>
              <a:endCxn id="155" idx="1"/>
            </p:cNvCxnSpPr>
            <p:nvPr/>
          </p:nvCxnSpPr>
          <p:spPr>
            <a:xfrm>
              <a:off x="6509160" y="46904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5"/>
              <a:endCxn id="159" idx="0"/>
            </p:cNvCxnSpPr>
            <p:nvPr/>
          </p:nvCxnSpPr>
          <p:spPr>
            <a:xfrm>
              <a:off x="6889680" y="4233600"/>
              <a:ext cx="95940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9" idx="5"/>
              <a:endCxn id="162" idx="0"/>
            </p:cNvCxnSpPr>
            <p:nvPr/>
          </p:nvCxnSpPr>
          <p:spPr>
            <a:xfrm>
              <a:off x="7956720" y="5148000"/>
              <a:ext cx="42624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9" idx="4"/>
              <a:endCxn id="161" idx="0"/>
            </p:cNvCxnSpPr>
            <p:nvPr/>
          </p:nvCxnSpPr>
          <p:spPr>
            <a:xfrm flipH="1">
              <a:off x="7695720" y="5181120"/>
              <a:ext cx="15300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59" idx="3"/>
              <a:endCxn id="157" idx="7"/>
            </p:cNvCxnSpPr>
            <p:nvPr/>
          </p:nvCxnSpPr>
          <p:spPr>
            <a:xfrm flipH="1">
              <a:off x="6889320" y="5147640"/>
              <a:ext cx="851400" cy="7534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55" idx="4"/>
              <a:endCxn id="157" idx="0"/>
            </p:cNvCxnSpPr>
            <p:nvPr/>
          </p:nvCxnSpPr>
          <p:spPr>
            <a:xfrm>
              <a:off x="6781680" y="5181120"/>
              <a:ext cx="108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78" name=""/>
          <p:cNvSpPr/>
          <p:nvPr/>
        </p:nvSpPr>
        <p:spPr>
          <a:xfrm>
            <a:off x="6324480" y="4610160"/>
            <a:ext cx="914400" cy="914400"/>
          </a:xfrm>
          <a:prstGeom prst="donut">
            <a:avLst>
              <a:gd name="adj" fmla="val 8162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81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Ontology Driven Interfac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ling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scribe the possible restrictions that can be applie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657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ling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ion through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manipul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4952880"/>
            <a:ext cx="304920" cy="2286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5257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705720" y="43434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7200720" y="4800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77504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id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1055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44492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striction &amp; narro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768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What can I say about X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5867280"/>
            <a:ext cx="304920" cy="2286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038480"/>
            <a:ext cx="304920" cy="2286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952880"/>
            <a:ext cx="304920" cy="2286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l constrained within a particular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3124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il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form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interfaces using those restri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Video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Ls are useful for representing meta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82760" indent="-18576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t they’r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har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o interact with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82760" indent="-18576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 need to supply better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352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oit thei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mposition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strain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vailable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crementa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query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explor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guidanc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t the intension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ing browsing and 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Future Work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876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more expressive 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resenting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sjun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733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taloguing and digital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fferent kinds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vs.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895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action of specialization and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explain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he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an Bechhof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artment of Computer Science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seanb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http://img.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15:43:53Z</dcterms:created>
  <dc:creator>Sean Bechhofer</dc:creator>
  <dc:description/>
  <dc:language>en-US</dc:language>
  <cp:lastModifiedBy>Sean Bechhofer</cp:lastModifiedBy>
  <dcterms:modified xsi:type="dcterms:W3CDTF">1999-09-08T17:32:51Z</dcterms:modified>
  <cp:revision>117</cp:revision>
  <dc:subject/>
  <dc:title>No Slide Title</dc:title>
</cp:coreProperties>
</file>